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CFF43-6BD2-4B24-95E7-CD096EA0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8A40-E776-4245-B7EF-773CD36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6163C-17B7-4583-8409-2B598B9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31F34-8C37-46AA-9855-5716270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B9102-593C-46D3-8FFB-5D7BFC0E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5195-9502-40DD-9791-D9B028A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DE137-9B5D-44CB-A5FD-5A652C4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1E9BC-C6EB-45AD-8912-4B9D37A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315A2-AFB1-4001-A148-3B1071E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D836-D2CA-4A91-B015-27D717E8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FC7EE-2F81-4162-A10A-84267AF8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4AF1C-E9EB-4916-A40A-5EF0AAE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55FB0-0908-40FC-B667-CA9EBC3A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1CC2D-DFFF-461F-8A60-B00FF85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5A43B-04C6-441F-A765-473DDBFB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A8AAB-CC55-46C4-8BE3-75150ED0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0EC57-6CB2-4AB1-86F6-EF61BE4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B0F6A-8A88-475E-A39C-D6FD092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79AC5-3D48-42B6-B87A-C12B4B0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3FA7A-44C3-4C78-BB6C-60922C4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D52E4-16EA-4753-8B62-4C656BF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E1423-49BB-48EA-8DA7-1877913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44500-4A6E-4495-AB64-E64779E3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EE68A-7132-4F0B-9CFB-B8B8D554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770D1-0D3B-49C0-BA9B-C122F437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11BEF-1A5F-4EB4-90CC-369623A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51FA3-1C8C-4B76-A6A5-E25F413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EFE27-582E-4BBE-8DE0-7A1728D6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C785E-CB75-4D75-BD93-8CA5CCB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518E2-0EDF-4D36-87E1-F1795488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8C138-A7FD-4EC9-9100-DF3F128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47727-A8DB-42CD-B1E8-D367E89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BF8AB-ED23-4B5F-9CE8-3E1EA30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0B24A-11A3-471B-B869-E433D75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3BBF5-6304-4907-B2A2-6D173361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1DCA3-7C17-430A-AB0F-F0A92E35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40233-7326-47A1-ABAF-471A2082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0ED1D-0586-4D54-820E-D2F6FF4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9A377B-99CC-495B-89E1-4B6C9390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831EF-E10F-4BDB-ADED-AC53E90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848813-581C-4684-9F62-16483702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79560" y="657360"/>
            <a:ext cx="71848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029ED-DB1B-481C-99F8-4E1CEEB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EF78D-B83F-4E7F-A93C-A9AE75D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74DD1-ACA0-49AD-BD41-2A068EC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B5395-6E50-493F-9194-6B820C5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4656A1-F55E-4FDC-B0B0-6CEA804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D9449-8D83-4031-AAAA-1B55E520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808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91840" y="130824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446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808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91840" y="2758680"/>
            <a:ext cx="25934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9D8A3-BC7D-426E-9284-78459E9B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275868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46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308240"/>
            <a:ext cx="393048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4680" y="2758680"/>
            <a:ext cx="8054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3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F020-7E5B-4C6C-AB75-FB0EF3771353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6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7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870A-2B07-4858-AA44-BCEE2F1D11B6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9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0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50F6-0A96-4A45-9281-FE6D9BF95DC9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Sammy CCB\COLOMBO BRITANICO\plantilla power point\plantilla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bk object 17"/>
          <p:cNvSpPr/>
          <p:nvPr/>
        </p:nvSpPr>
        <p:spPr>
          <a:xfrm>
            <a:off x="5929200" y="6165720"/>
            <a:ext cx="3214800" cy="6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bk object 18"/>
          <p:cNvSpPr/>
          <p:nvPr/>
        </p:nvSpPr>
        <p:spPr>
          <a:xfrm>
            <a:off x="1600200" y="138240"/>
            <a:ext cx="1928880" cy="795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44680" y="1308240"/>
            <a:ext cx="8054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dt" idx="12"/>
          </p:nvPr>
        </p:nvSpPr>
        <p:spPr>
          <a:xfrm>
            <a:off x="536400" y="6407280"/>
            <a:ext cx="53352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3"/>
          </p:nvPr>
        </p:nvSpPr>
        <p:spPr>
          <a:xfrm>
            <a:off x="5689080" y="6407280"/>
            <a:ext cx="16380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C30-25A0-4148-A101-32C9101F956E}" type="slidenum">
              <a:rPr b="0" lang="es-CO" sz="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bject 2"/>
          <p:cNvSpPr/>
          <p:nvPr/>
        </p:nvSpPr>
        <p:spPr>
          <a:xfrm>
            <a:off x="2862360" y="0"/>
            <a:ext cx="628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3"/>
          <p:cNvSpPr/>
          <p:nvPr/>
        </p:nvSpPr>
        <p:spPr>
          <a:xfrm>
            <a:off x="5786280" y="5996160"/>
            <a:ext cx="3357720" cy="64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4"/>
          <p:cNvSpPr/>
          <p:nvPr/>
        </p:nvSpPr>
        <p:spPr>
          <a:xfrm>
            <a:off x="4660920" y="831960"/>
            <a:ext cx="3808440" cy="157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5"/>
          <p:cNvSpPr/>
          <p:nvPr/>
        </p:nvSpPr>
        <p:spPr>
          <a:xfrm>
            <a:off x="898560" y="2874960"/>
            <a:ext cx="238932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6"/>
          <p:cNvSpPr/>
          <p:nvPr/>
        </p:nvSpPr>
        <p:spPr>
          <a:xfrm>
            <a:off x="2751120" y="2874960"/>
            <a:ext cx="5718240" cy="901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7"/>
          <p:cNvSpPr/>
          <p:nvPr/>
        </p:nvSpPr>
        <p:spPr>
          <a:xfrm>
            <a:off x="1135080" y="3362400"/>
            <a:ext cx="5383080" cy="901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8"/>
          <p:cNvSpPr/>
          <p:nvPr/>
        </p:nvSpPr>
        <p:spPr>
          <a:xfrm>
            <a:off x="5981760" y="3362400"/>
            <a:ext cx="649080" cy="9018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9"/>
          <p:cNvSpPr/>
          <p:nvPr/>
        </p:nvSpPr>
        <p:spPr>
          <a:xfrm>
            <a:off x="6094440" y="3362400"/>
            <a:ext cx="2025720" cy="9018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10"/>
          <p:cNvSpPr/>
          <p:nvPr/>
        </p:nvSpPr>
        <p:spPr>
          <a:xfrm>
            <a:off x="7583400" y="3362400"/>
            <a:ext cx="649440" cy="9018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11"/>
          <p:cNvSpPr/>
          <p:nvPr/>
        </p:nvSpPr>
        <p:spPr>
          <a:xfrm>
            <a:off x="1139760" y="2994120"/>
            <a:ext cx="69454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81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Objetivos, alcances y aspectos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12"/>
          <p:cNvSpPr/>
          <p:nvPr/>
        </p:nvSpPr>
        <p:spPr>
          <a:xfrm>
            <a:off x="1376280" y="3483000"/>
            <a:ext cx="64753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813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relevantes de la ley 1581</a:t>
            </a: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	</a:t>
            </a:r>
            <a:r>
              <a:rPr b="1" lang="es-CO" sz="3200" spc="-1" strike="noStrike">
                <a:solidFill>
                  <a:srgbClr val="001f5f"/>
                </a:solidFill>
                <a:latin typeface="Arial"/>
                <a:ea typeface="Arial"/>
              </a:rPr>
              <a:t>d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13"/>
          <p:cNvSpPr/>
          <p:nvPr/>
        </p:nvSpPr>
        <p:spPr>
          <a:xfrm>
            <a:off x="5657760" y="4600440"/>
            <a:ext cx="2938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Carlos Enrique Salazar Muñoz </a:t>
            </a:r>
            <a:r>
              <a:rPr b="0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Director de Investigación para la Protección de Datos 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14"/>
          <p:cNvSpPr/>
          <p:nvPr/>
        </p:nvSpPr>
        <p:spPr>
          <a:xfrm>
            <a:off x="2841480" y="5942160"/>
            <a:ext cx="291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2b82"/>
                </a:solidFill>
                <a:latin typeface="Arial"/>
                <a:ea typeface="Arial"/>
              </a:rPr>
              <a:t>Bogotá D.C., dic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10"/>
          <a:stretch/>
        </p:blipFill>
        <p:spPr>
          <a:xfrm>
            <a:off x="898560" y="1066680"/>
            <a:ext cx="2773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044360"/>
            <a:ext cx="718488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0" bIns="0" anchor="t">
            <a:noAutofit/>
          </a:bodyPr>
          <a:p>
            <a:pPr marL="184644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Categorías especiales de dato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A50-67C2-48DE-A669-78EC809FD741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ject 7"/>
          <p:cNvSpPr/>
          <p:nvPr/>
        </p:nvSpPr>
        <p:spPr>
          <a:xfrm>
            <a:off x="1752480" y="2203560"/>
            <a:ext cx="719136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sensibles: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quellos que afectan la intimidad de las personas o cuyo uso indebido puede generar discriminación (Origen racial    o    étnico,    orientación    política,    convicciones filosóficas   o   religiosas,   pertenencia   a   sindicatos   u organizaciones  sociales  o  de  derechos  humanos,  datos de salud, vida sexual y biométr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prohíbe  el  tratamiento  de  datos  sensibles  salvo  las excepciones del artículo 6 de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9560" y="6573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500040" bIns="0" anchor="t">
            <a:noAutofit/>
          </a:bodyPr>
          <a:p>
            <a:pPr marL="1073160" indent="0" algn="ctr">
              <a:lnSpc>
                <a:spcPts val="332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Categorías especiales de dato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object 4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ject 5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6478-414A-4720-A1EC-45B79E614F6A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ject 3"/>
          <p:cNvSpPr/>
          <p:nvPr/>
        </p:nvSpPr>
        <p:spPr>
          <a:xfrm>
            <a:off x="1905120" y="1884240"/>
            <a:ext cx="654984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buClr>
                <a:srgbClr val="002b82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personales de men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397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proscribe el tratamiento de datos personales de menores de edad salvo aquellos datos que sean de naturaleza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397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 Corte Constitucional precisó que tal prohibición debe interpretarse en  el  sentido  de  que  los  datos  personales  de  los  menores  de  18 años, </a:t>
            </a: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ueden ser tratados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, siempre y cuando el fin que se persiga con dicho tratamiento responda al interés superior de los menores y se asegure el respeto de sus derechos preval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2880" y="107316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12920" bIns="0" anchor="t">
            <a:noAutofit/>
          </a:bodyPr>
          <a:p>
            <a:pPr marL="208584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rechos de los titular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object 7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8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01B-E1EF-4E92-AEF9-0A43C10BC8E3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1676520" y="2209680"/>
            <a:ext cx="718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Conocer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,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actualiz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y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rectific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us datos personales frente a Responsables y Encarg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olicitar prueba de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autorizac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l Respon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Se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informado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respecto del uso de los d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Presenta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queja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nte la 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Revoc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la autorización y/o solicitar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supres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del dato (no sólo por intermedio de la SIC),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cceder en form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</a:rPr>
              <a:t>gratuit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</a:rPr>
              <a:t>a sus datos pers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4320" y="121932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82840" indent="0" algn="ctr">
              <a:lnSpc>
                <a:spcPts val="3325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Autorización del titula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B80E-B42A-4FA0-B60D-FFDD86B75B07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3"/>
          <p:cNvSpPr/>
          <p:nvPr/>
        </p:nvSpPr>
        <p:spPr>
          <a:xfrm>
            <a:off x="1722600" y="2057400"/>
            <a:ext cx="74214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se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evi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formad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(no tác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823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uede ser obtenida por cualquier medio que permit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361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sult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o es necesaria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2823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uando la información sea requerida po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2361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úblic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ejercicio de sus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trate de datos de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aturalez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55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8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casos de urgenci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médic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o sanitaria (si no es urgencia, debe obtenerse la autoriz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ara fines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históricos, estadísticos o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ts val="2849"/>
              </a:lnSpc>
              <a:buClr>
                <a:srgbClr val="002b82"/>
              </a:buClr>
              <a:buFont typeface="Arial"/>
              <a:buChar char="-"/>
              <a:tabLst>
                <a:tab algn="l" pos="4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 relacionados con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gistro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object 2"/>
          <p:cNvSpPr/>
          <p:nvPr/>
        </p:nvSpPr>
        <p:spPr>
          <a:xfrm>
            <a:off x="2363760" y="1219320"/>
            <a:ext cx="568332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beres de los Responsables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Tra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18A-CEB9-462B-ACFB-F5F12CAE4BE4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3"/>
          <p:cNvSpPr/>
          <p:nvPr/>
        </p:nvSpPr>
        <p:spPr>
          <a:xfrm>
            <a:off x="1600200" y="2514600"/>
            <a:ext cx="721188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ts val="2299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utorización del titular: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solicitarla y conservarla e informar  al  titular  la  finalidad  de  la  recolección  y  los derechos que le asi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397"/>
              </a:lnSpc>
              <a:spcBef>
                <a:spcPts val="74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alidad  de  la  información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garantizar  que  la información  sea  veraz,  completa,  exacta,  actualizada, comprobable  y  comprensible,  actualizar  la  información comunicando  al  encargado  las  novedades  y  adoptar medidas  para  que  la  misma  se  mantenga  actualizada. Adicionalmente debe rectificar la información incorrecta y comunicar al encargado e indicarle cuando la información este en discusión por parte de su tit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bject 2"/>
          <p:cNvSpPr/>
          <p:nvPr/>
        </p:nvSpPr>
        <p:spPr>
          <a:xfrm>
            <a:off x="2635200" y="971640"/>
            <a:ext cx="56833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Responsable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tamiento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1FBA-7CCC-4AD7-8025-121CCCDBCA03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3"/>
          <p:cNvSpPr/>
          <p:nvPr/>
        </p:nvSpPr>
        <p:spPr>
          <a:xfrm>
            <a:off x="1698480" y="1998720"/>
            <a:ext cx="725832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guridad    de    la    información:  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  impedir    la adulteración, pérdida, consulta, uso o acceso no autorizado 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fraudulento,   exigir   al   encargado   el   respeto   a   las condiciones de seguridad y privacidad, adoptar un manual interno   de   políticas   y   procedimientos   e   informar   a   la autoridad cuando se presenten violaciones a los códigos de seguridad  que  generen  riesgos  en  la  administración  de  l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55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Tratamiento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suministrar  al  encargado  únicamente datos   cuyo   tratamiento   esté   previamente   autorizado   e informar,  a  solicitud  del  titular,  sobre  el  uso  dado  a  su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55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89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icionalmente debe garantizar al titular, en todo tiempo, el pleno y efectivo ejercicio de su derecho de hábeas data y tramitar   las   consultas   y   reclamos   presentados,   en 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bject 2"/>
          <p:cNvSpPr/>
          <p:nvPr/>
        </p:nvSpPr>
        <p:spPr>
          <a:xfrm>
            <a:off x="3036960" y="835200"/>
            <a:ext cx="53053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46280" indent="-1633680">
              <a:lnSpc>
                <a:spcPct val="118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Encargados de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1E5-F179-45A1-B2DA-CC00F546354F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3"/>
          <p:cNvSpPr/>
          <p:nvPr/>
        </p:nvSpPr>
        <p:spPr>
          <a:xfrm>
            <a:off x="1627200" y="1797120"/>
            <a:ext cx="733896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guridad de la información: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impedir la adulteración, pérdida,  consulta,  uso  o acceso  no autorizado  o fraudulento, adoptar  un  manual  interno  de  políticas  y  procedimientos  e informar a la autoridad cuando se presenten violaciones a los códigos    de    seguridad    que    generen    riesgos    en    la administración de l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100"/>
              </a:lnSpc>
              <a:spcBef>
                <a:spcPts val="74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alidad  de  la  información: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realizar  oportunamente  la actualización, rectificación o supresión de los datos erróneos, actualizar   la   información   reportada   por   los   responsables dentr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 los  5  días  hábiles  contados  a  partir  de  su  recibo, registrar  en  la  base  las  leyendas  de 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«reclamo  en  trámite»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«información  en  discusión  judicial» 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y  abstenerse  de  circular información controvertida y cuyo bloqueo haya sido ordenado por la Superintendencia de Industria y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81200" y="1143000"/>
            <a:ext cx="718488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beres de los Encargados del</a:t>
            </a:r>
            <a:br>
              <a:rPr sz="2400"/>
            </a:br>
            <a:br>
              <a:rPr sz="2400"/>
            </a:b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tamiento (II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EE2-66AC-4695-B9AB-88F5C22A66B9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3"/>
          <p:cNvSpPr/>
          <p:nvPr/>
        </p:nvSpPr>
        <p:spPr>
          <a:xfrm>
            <a:off x="1708200" y="2631960"/>
            <a:ext cx="71308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permitir  el  acceso  a  la  información  únicamente  a las  personas  que  puedan  tener  acceso  a  ella,  en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998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ts val="1397"/>
              </a:lnSpc>
              <a:spcBef>
                <a:spcPts val="62"/>
              </a:spcBef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be  garantizar  al  titular,  en  todo  tiempo,  el  pleno  y efectivo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jercicio   de   su   derecho   de   hábeas   data   y tramitar  las  consultas  y  reclamos  presentados,  en  los términos señalado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1117080"/>
            <a:ext cx="7185240" cy="938520"/>
          </a:xfrm>
          <a:prstGeom prst="rect">
            <a:avLst/>
          </a:prstGeom>
          <a:noFill/>
          <a:ln w="0">
            <a:noFill/>
          </a:ln>
        </p:spPr>
        <p:txBody>
          <a:bodyPr lIns="0" rIns="0" tIns="357840" bIns="0" anchor="t">
            <a:noAutofit/>
          </a:bodyPr>
          <a:p>
            <a:pPr marL="2157480" indent="0" algn="ctr">
              <a:lnSpc>
                <a:spcPts val="4286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rocedimiento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1DA1-7D74-434C-A757-0315FF6EBC52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3"/>
          <p:cNvSpPr/>
          <p:nvPr/>
        </p:nvSpPr>
        <p:spPr>
          <a:xfrm>
            <a:off x="1676520" y="2514600"/>
            <a:ext cx="71038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 algn="just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  establecen    los    mismos    procedimientos previstos  en  la 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  1266  de  2008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:  Consultas  y recl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 algn="just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  permite  definir  términos  inferiores  para  las consultas en leyes o reglamentos, atendiendo la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naturaleza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l d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buClr>
                <a:srgbClr val="002b82"/>
              </a:buClr>
              <a:buFont typeface="Arial"/>
              <a:buChar char="•"/>
              <a:tabLst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serv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l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quisito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procedibilidad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ara elevar queja ante la 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538776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82880" indent="0" algn="ctr">
              <a:lnSpc>
                <a:spcPts val="3325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Sancion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DF4C-AE12-4480-96F9-746B75B9005A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3"/>
          <p:cNvSpPr/>
          <p:nvPr/>
        </p:nvSpPr>
        <p:spPr>
          <a:xfrm>
            <a:off x="1636560" y="1905120"/>
            <a:ext cx="718056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lnSpc>
                <a:spcPts val="3285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Multas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arácter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ersonal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e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institucional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hasta por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2000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ML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lnSpc>
                <a:spcPct val="80000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uspensión 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 actividades  relacionadas  con  el tratamiento hasta por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6 mes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. En acto de cierre se indicarán los corre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499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3285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ierre temporal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las operaciones si no se adoptan los corre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1100"/>
              </a:lnSpc>
              <a:spcBef>
                <a:spcPts val="74"/>
              </a:spcBef>
              <a:tabLst>
                <a:tab algn="l" pos="0"/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 algn="just">
              <a:lnSpc>
                <a:spcPts val="2687"/>
              </a:lnSpc>
              <a:buClr>
                <a:srgbClr val="002b82"/>
              </a:buClr>
              <a:buFont typeface="Arial"/>
              <a:buChar char="•"/>
              <a:tabLst>
                <a:tab algn="l" pos="353880"/>
                <a:tab algn="l" pos="1744560"/>
                <a:tab algn="l" pos="2403360"/>
                <a:tab algn="l" pos="3952800"/>
                <a:tab algn="l" pos="5699160"/>
                <a:tab algn="l" pos="615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Cierre inmediato y definitivo de la operación que involucre el tratamiento de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atos sensibl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bject 2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3"/>
          <p:cNvSpPr/>
          <p:nvPr/>
        </p:nvSpPr>
        <p:spPr>
          <a:xfrm>
            <a:off x="5759280" y="6407280"/>
            <a:ext cx="8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4"/>
          <p:cNvSpPr/>
          <p:nvPr/>
        </p:nvSpPr>
        <p:spPr>
          <a:xfrm>
            <a:off x="2347920" y="2897280"/>
            <a:ext cx="474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1. Ley 1581 de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93800" y="700200"/>
            <a:ext cx="71834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340920" bIns="0" anchor="t">
            <a:noAutofit/>
          </a:bodyPr>
          <a:p>
            <a:pPr marL="11145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gistro Nacional de Bases de Dato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object 7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8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FA6-E1C8-4718-8F0A-CDC577335110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3"/>
          <p:cNvSpPr/>
          <p:nvPr/>
        </p:nvSpPr>
        <p:spPr>
          <a:xfrm>
            <a:off x="1665360" y="1901880"/>
            <a:ext cx="67294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lnSpc>
                <a:spcPts val="2823"/>
              </a:lnSpc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1996920"/>
                <a:tab algn="l" pos="3279600"/>
                <a:tab algn="l" pos="3821040"/>
                <a:tab algn="l" pos="4413240"/>
                <a:tab algn="l" pos="5429160"/>
                <a:tab algn="l" pos="5969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irectorio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úblico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la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atos sujetas a Tratamiento que operan en 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5"/>
          <p:cNvSpPr/>
          <p:nvPr/>
        </p:nvSpPr>
        <p:spPr>
          <a:xfrm>
            <a:off x="1660680" y="2924280"/>
            <a:ext cx="69357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43080"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ermitirá conoc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alidad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las bases de datos del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Flujo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y tipo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Quién o quiéne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adelantan su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Finalidad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ct val="100000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Política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de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899"/>
              </a:lnSpc>
              <a:spcBef>
                <a:spcPts val="26"/>
              </a:spcBef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998"/>
              </a:lnSpc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185760">
              <a:lnSpc>
                <a:spcPts val="998"/>
              </a:lnSpc>
              <a:buClr>
                <a:srgbClr val="002b82"/>
              </a:buClr>
              <a:buFont typeface="Arial"/>
              <a:buChar char="-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buClr>
                <a:srgbClr val="002b82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Sujeto a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826560"/>
            <a:ext cx="71848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 marL="8953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nsferencia de datos a terceros paíse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E79-7FF4-49F3-976D-6D3FD162C31F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828800" y="1697040"/>
            <a:ext cx="71042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Se prohíbe la transferencia a países que no proporcionen niveles de seguridad adecuados de prot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La SIC fijará los estándares para definir cuándo un país ofrece un nivel adecuado de protección, acorde con la 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xclusiones: - Titular haya otorgado autorización expresa e inequívoca - Intercambio de datos médicos por razones de salud e higiene pública - Transferencias bancarias o bursát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18488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 marL="665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b82"/>
                </a:solidFill>
                <a:latin typeface="Arial"/>
                <a:ea typeface="Arial"/>
              </a:rPr>
              <a:t>Transferencia de datos a terceros países (II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object 16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17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3E9-39EC-41D4-A45B-3CC4EDEAD778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752480" y="1700280"/>
            <a:ext cx="718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x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acordadas en el marco de tratados internacionales, bajo el principio de recipr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necesarias para la ejecución de un contrato entre el Titular y el responsable o para la ejecución de medidas precontractuales, previa autorización del Tit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Transferencias legalmente exigidas para la salvaguardia del interés público o el reconocimiento, ejercicio o defensa de un derecho en un proceso judi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00200" y="732960"/>
            <a:ext cx="71848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484920" bIns="0" anchor="t">
            <a:noAutofit/>
          </a:bodyPr>
          <a:p>
            <a:pPr marL="841320" indent="0" algn="ctr">
              <a:lnSpc>
                <a:spcPts val="332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Normas corporativas vinculante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586-4B8C-4967-BFEC-A2A2F8B28452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1752480" y="2147760"/>
            <a:ext cx="718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Corresponde al Gobierno Nacional expedir la reglamentación sobre Normas Corporativas Vinculantes para la </a:t>
            </a:r>
            <a:r>
              <a:rPr b="1" lang="es-CO" sz="2400" spc="-1" strike="noStrike">
                <a:solidFill>
                  <a:srgbClr val="002b82"/>
                </a:solidFill>
                <a:latin typeface="Arial"/>
              </a:rPr>
              <a:t>certificación de buenas practicas </a:t>
            </a: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en protección de datos personales y su transferencia a terceros paí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2b82"/>
                </a:solidFill>
                <a:latin typeface="Arial"/>
              </a:rPr>
              <a:t>Se prevé la posibilidad de que existan entes certificadores de buenas prácticas acreditados ante el Organismo Nacional de Acreditación (ONAC) y que serían controlados por la Superintendencia de Industria y Comer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bject 2"/>
          <p:cNvSpPr/>
          <p:nvPr/>
        </p:nvSpPr>
        <p:spPr>
          <a:xfrm>
            <a:off x="2743200" y="1449360"/>
            <a:ext cx="533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2b82"/>
                </a:solidFill>
                <a:latin typeface="Arial"/>
                <a:ea typeface="Arial"/>
              </a:rPr>
              <a:t>Régimen de tran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90D-C67C-437E-8237-9EF2512FFDA1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3"/>
          <p:cNvSpPr/>
          <p:nvPr/>
        </p:nvSpPr>
        <p:spPr>
          <a:xfrm>
            <a:off x="2133720" y="2971800"/>
            <a:ext cx="6537240" cy="26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Se  prevé  un  plazo  de  </a:t>
            </a:r>
            <a:r>
              <a:rPr b="1" lang="es-CO" sz="5400" spc="-1" strike="noStrike">
                <a:solidFill>
                  <a:srgbClr val="002b82"/>
                </a:solidFill>
                <a:latin typeface="Arial"/>
                <a:ea typeface="Arial"/>
              </a:rPr>
              <a:t>6 </a:t>
            </a: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meses para </a:t>
            </a:r>
            <a:r>
              <a:rPr b="1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adecuar su funcionamiento </a:t>
            </a:r>
            <a:r>
              <a:rPr b="0" lang="es-CO" sz="4000" spc="-1" strike="noStrike">
                <a:solidFill>
                  <a:srgbClr val="002b82"/>
                </a:solidFill>
                <a:latin typeface="Arial"/>
                <a:ea typeface="Arial"/>
              </a:rPr>
              <a:t>a  las  disposiciones  contempladas en la 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4"/>
          <p:cNvSpPr/>
          <p:nvPr/>
        </p:nvSpPr>
        <p:spPr>
          <a:xfrm>
            <a:off x="5514840" y="230040"/>
            <a:ext cx="3489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439439"/>
                </a:solidFill>
                <a:latin typeface="Arial"/>
                <a:ea typeface="Arial"/>
              </a:rPr>
              <a:t>Delegatura para la Protección de Datos Pers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bject 2"/>
          <p:cNvSpPr/>
          <p:nvPr/>
        </p:nvSpPr>
        <p:spPr>
          <a:xfrm>
            <a:off x="1752480" y="1447920"/>
            <a:ext cx="71629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 1581 de 201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elanta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vestigacione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oficio o a petición de parte,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mpartir órdenes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acceso, rectificación, actualización y/o supresión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isponer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loqueo temporal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datos por riesgo de viol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rechos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omover y divulgar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rechos de los tit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mpart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instruccion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rofer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claraciones de conformidad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sobre transferencia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5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dministrar el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NBD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598"/>
              </a:lnSpc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buClr>
                <a:srgbClr val="002b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querir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laboración 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 entidade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5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6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044-126A-45E0-867D-94A09B47DB9D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185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0" bIns="0" anchor="t">
            <a:noAutofit/>
          </a:bodyPr>
          <a:p>
            <a:pPr marL="208116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Funciones de la SIC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600200" y="870120"/>
            <a:ext cx="70754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f497d"/>
                </a:solidFill>
                <a:latin typeface="Calibri"/>
              </a:rPr>
              <a:t>LITERAL ADICIONADO EN CLAUSULA DEL CONTRAT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600200" y="1752480"/>
            <a:ext cx="72388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Dentro de la cláusula de obligaciones del contrato laboral, se realiza las siguientes adiciones (otro si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Cumplir con los lineamientos establecidos en la Política de Administración de los Sistemas de Información (IT-PCS-PD-02), la cual se encuentra en la Intranet del Colegio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1f497d"/>
                </a:solidFill>
                <a:latin typeface="Arial"/>
              </a:rPr>
              <a:t>Guardar estricta confidencialidad sobre la información y datos de los miembros de la Comunidad Educativa que sean de su conocimiento por motivo de sus funciones y/o responsabilidad definidas en el perfil del cargo, tal y como lo establece la Ley 1581 de 2012 para la protección de datos personales. En caso de infracción a esta confidencialidad es acreedor del pago de los daños y perjuicios causados a la Corporación Colegio Colombo Británico, sin perjuicio de las acciones penales, labores y disciplinarias que pudieran correspond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bject 2"/>
          <p:cNvSpPr/>
          <p:nvPr/>
        </p:nvSpPr>
        <p:spPr>
          <a:xfrm>
            <a:off x="3508200" y="2593800"/>
            <a:ext cx="2262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2b82"/>
                </a:solidFill>
                <a:latin typeface="Arial"/>
                <a:ea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B86-A053-4529-B6C3-E702140E7AA3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bject 2"/>
          <p:cNvSpPr/>
          <p:nvPr/>
        </p:nvSpPr>
        <p:spPr>
          <a:xfrm>
            <a:off x="2922480" y="1143000"/>
            <a:ext cx="46418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MARCO CO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3"/>
          <p:cNvSpPr/>
          <p:nvPr/>
        </p:nvSpPr>
        <p:spPr>
          <a:xfrm>
            <a:off x="1704960" y="1981080"/>
            <a:ext cx="72867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rtículo 15 de la Constitución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“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Todas las personas tienen derecho a su intimidad personal y familiar y a su buen nombre, y el Estado debe respetarlos y hacerlos respetar. De igual   modo,   tienen   derecho   a   conocer,   actualizar   y   rectificar   las informaciones que se hayan recogido sobre ellas en bancos de datos y en archivos de entidades públicas y privadas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En  la  recolección,  tratamiento  y  circulación  de  datos  se  respetarán  la libertad y demás garantías consagradas en la Constitució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object 2"/>
          <p:cNvSpPr/>
          <p:nvPr/>
        </p:nvSpPr>
        <p:spPr>
          <a:xfrm>
            <a:off x="-685800" y="1371600"/>
            <a:ext cx="950904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12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Obje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12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“…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sarrollar el derecho constitucional que tiene todas   las   personas   a   </a:t>
            </a:r>
            <a:r>
              <a:rPr b="1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ocer,   actualizar   y rectificar    </a:t>
            </a:r>
            <a:r>
              <a:rPr b="0" i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s    informaciones    que    se    hayan recogido sobre ellas en bases de datos o archivos, y   los   demás   derechos,   libertades   y   garantías constitucionales a que se refiere el artículo 15 de la Constitución Política; así como el derecho a la información  consagrado  en  el  artículo  20  de  la mism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21D2-6FEB-49B9-8644-BCFFA41EDF15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bject 2"/>
          <p:cNvSpPr/>
          <p:nvPr/>
        </p:nvSpPr>
        <p:spPr>
          <a:xfrm>
            <a:off x="-380880" y="2133720"/>
            <a:ext cx="92962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5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Ámbito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550"/>
              </a:lnSpc>
              <a:spcBef>
                <a:spcPts val="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>
              <a:lnSpc>
                <a:spcPts val="99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540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 ley se aplica al tratamiento de datos personales efectuado  por  entidades  </a:t>
            </a:r>
            <a:r>
              <a:rPr b="1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úblicas  o  privada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, dentro   del   país   o   cuando   el   Responsable   o Encargado no establecido en territorio nacional le sea  aplicable  la  legislación  colombiana  en  virtud de normas y tratad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6FE-10D6-49AB-8F98-9105E128851E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bject 2"/>
          <p:cNvSpPr/>
          <p:nvPr/>
        </p:nvSpPr>
        <p:spPr>
          <a:xfrm>
            <a:off x="4278240" y="939960"/>
            <a:ext cx="21002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Ex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6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7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F417-1E0C-402C-B3F3-7F615241BD21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699912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85840" algn="just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 de  datos  o  archivos  mantenidos  en  un  ámbito exclusivamente personal o domés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 algn="just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que tienen por finalidad la seguridad y defensa nacional y la prevención y control del lavado de activos y financiamiento del terror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de inteligencia y contrainteli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ts val="2849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y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archivos periodísticos y ot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contenidos editor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e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dato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reguladas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por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a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ley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	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1266 de 2008 (datos financieros – crediticio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550"/>
              </a:lnSpc>
              <a:spcBef>
                <a:spcPts val="26"/>
              </a:spcBef>
              <a:buNone/>
              <a:tabLst>
                <a:tab algn="l" pos="0"/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85840">
              <a:lnSpc>
                <a:spcPct val="100000"/>
              </a:lnSpc>
              <a:buClr>
                <a:srgbClr val="002b82"/>
              </a:buClr>
              <a:buFont typeface="Wingdings" charset="2"/>
              <a:buChar char="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Bases de datos del DANE (Ley 79 de 1993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ts val="2849"/>
              </a:lnSpc>
              <a:buNone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bject 2"/>
          <p:cNvSpPr/>
          <p:nvPr/>
        </p:nvSpPr>
        <p:spPr>
          <a:xfrm>
            <a:off x="4070520" y="727200"/>
            <a:ext cx="213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ject 8"/>
          <p:cNvSpPr/>
          <p:nvPr/>
        </p:nvSpPr>
        <p:spPr>
          <a:xfrm>
            <a:off x="536400" y="6407280"/>
            <a:ext cx="533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13/12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9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AAA-CAF7-4FA3-8509-932A16A7ABD0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ject 7"/>
          <p:cNvSpPr/>
          <p:nvPr/>
        </p:nvSpPr>
        <p:spPr>
          <a:xfrm>
            <a:off x="1676520" y="1447920"/>
            <a:ext cx="69246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1440" indent="-271440" algn="just"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Dato personal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Cualquier información vinculada o que pueda asociarse  a  una  o  varias  personas  determinadas  o  determinable (dato  público,  dato  semi-privado,  dato  privado  y  dato     privado 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Responsable del tratamiento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natural o jurídica, pública o privada,  que  por  sí  misma  o  en  asocio  con  otros,  decida  sobre  la base de datos y/o el tratamiento de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Encargado  del  tratamiento: 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 natural  o  jurídica,  pública  o privada,   que   por   sí  misma   o   en   asocio   con   otros,   realicé   el tratamiento  de  datos  personales  por  cuenta  del  responsable  del trat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76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Titular: 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Persona  natural  cuyos  datos  personales  sean  objeto  de trat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88"/>
              </a:spcBef>
              <a:buClr>
                <a:srgbClr val="002b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Tratamiento: </a:t>
            </a:r>
            <a:r>
              <a:rPr b="0" lang="es-CO" sz="1800" spc="-1" strike="noStrike">
                <a:solidFill>
                  <a:srgbClr val="002b82"/>
                </a:solidFill>
                <a:latin typeface="Arial"/>
                <a:ea typeface="Arial"/>
              </a:rPr>
              <a:t>Cualquier operación o conjunto de operaciones sobre datos personales, tales como la recolección, almacenamiento, uso, circulación o supresión</a:t>
            </a:r>
            <a:r>
              <a:rPr b="0" lang="es-CO" sz="2000" spc="-1" strike="noStrike">
                <a:solidFill>
                  <a:srgbClr val="002b8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object 2"/>
          <p:cNvSpPr/>
          <p:nvPr/>
        </p:nvSpPr>
        <p:spPr>
          <a:xfrm>
            <a:off x="2514600" y="3048120"/>
            <a:ext cx="565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2.</a:t>
            </a: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	</a:t>
            </a:r>
            <a:r>
              <a:rPr b="1" lang="es-CO" sz="4000" spc="-1" strike="noStrike">
                <a:solidFill>
                  <a:srgbClr val="001f5f"/>
                </a:solidFill>
                <a:latin typeface="Arial"/>
                <a:ea typeface="Arial"/>
              </a:rPr>
              <a:t>Aspectos relev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3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4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D38-D84C-4EC1-BEFB-D0A7B248CE79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bject 2"/>
          <p:cNvSpPr/>
          <p:nvPr/>
        </p:nvSpPr>
        <p:spPr>
          <a:xfrm>
            <a:off x="4419720" y="838080"/>
            <a:ext cx="174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2b82"/>
                </a:solidFill>
                <a:latin typeface="Arial"/>
                <a:ea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4"/>
          <p:cNvSpPr/>
          <p:nvPr/>
        </p:nvSpPr>
        <p:spPr>
          <a:xfrm>
            <a:off x="536400" y="640728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13/12/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5"/>
          <p:cNvSpPr/>
          <p:nvPr/>
        </p:nvSpPr>
        <p:spPr>
          <a:xfrm>
            <a:off x="5689440" y="6407280"/>
            <a:ext cx="16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2A8-D30D-4D85-9FD7-C0D2FEFAC35B}" type="slidenum">
              <a:rPr b="0" lang="es-CO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676520"/>
          <a:ext cx="7162920" cy="430344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6109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y 1581 de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y 1266 d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Veracidad o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Veracidad o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Fin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Acceso y circulación restring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irculación restring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fidenci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fidenci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Transpar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Tempor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Leg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Interpretación integral de derec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constitu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1f487c"/>
                          </a:solidFill>
                          <a:latin typeface="Arial"/>
                          <a:ea typeface="Arial"/>
                        </a:rPr>
                        <a:t>Libert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20:48:13Z</dcterms:created>
  <dc:creator>Maria Claudia Caviedes Mejia</dc:creator>
  <dc:description/>
  <dc:language>en-US</dc:language>
  <cp:lastModifiedBy>Maria Fda. Leon</cp:lastModifiedBy>
  <dcterms:modified xsi:type="dcterms:W3CDTF">2013-08-23T15:29:20Z</dcterms:modified>
  <cp:revision>1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2-12-13T00:00:00Z</vt:filetime>
  </property>
  <property fmtid="{D5CDD505-2E9C-101B-9397-08002B2CF9AE}" pid="3" name="LastSaved">
    <vt:filetime>2013-08-21T00:00:00Z</vt:filetime>
  </property>
</Properties>
</file>